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wmf" ContentType="image/x-wmf"/>
  <Override PartName="/ppt/media/image22.wmf" ContentType="image/x-wmf"/>
  <Override PartName="/ppt/media/image21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7C3C-E6E0-4DE5-B580-0238DF184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8853-E38B-45E3-B319-2CA5EA83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01F7-6BED-4A0C-A9C1-CC71C7ACB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97ED-3FE9-43A3-9817-C39D9A4D6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7E55-BF63-40FC-A379-67C8D78C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DEDB-1C06-42D2-BBE2-6045B2DF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4F53-AFAA-40F8-860E-9EE9C205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020C-8385-4471-9F47-F1229A63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711D-41BC-4B56-86B3-769D8E61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9A2C-B617-46CE-99F7-9427F4A8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8729-8242-4138-AE40-6B9B9957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E1A9-B8BA-44C2-B9CF-AB0D1E63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D4EB-0F06-408F-953F-A074C6C1B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image" Target="../media/image18.wmf"/><Relationship Id="rId19" Type="http://schemas.openxmlformats.org/officeDocument/2006/relationships/image" Target="../media/image19.wmf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8.xml"/><Relationship Id="rId3" Type="http://schemas.openxmlformats.org/officeDocument/2006/relationships/slide" Target="slide12.xml"/><Relationship Id="rId4" Type="http://schemas.openxmlformats.org/officeDocument/2006/relationships/slide" Target="slide5.xml"/><Relationship Id="rId5" Type="http://schemas.openxmlformats.org/officeDocument/2006/relationships/slide" Target="slide9.xml"/><Relationship Id="rId6" Type="http://schemas.openxmlformats.org/officeDocument/2006/relationships/slide" Target="slide13.xml"/><Relationship Id="rId7" Type="http://schemas.openxmlformats.org/officeDocument/2006/relationships/slide" Target="slide6.xml"/><Relationship Id="rId8" Type="http://schemas.openxmlformats.org/officeDocument/2006/relationships/slide" Target="slide10.xml"/><Relationship Id="rId9" Type="http://schemas.openxmlformats.org/officeDocument/2006/relationships/slide" Target="slide14.xml"/><Relationship Id="rId10" Type="http://schemas.openxmlformats.org/officeDocument/2006/relationships/slide" Target="slide7.xml"/><Relationship Id="rId11" Type="http://schemas.openxmlformats.org/officeDocument/2006/relationships/slide" Target="slide11.xml"/><Relationship Id="rId12" Type="http://schemas.openxmlformats.org/officeDocument/2006/relationships/slide" Target="slide15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3.xml"/><Relationship Id="rId3" Type="http://schemas.openxmlformats.org/officeDocument/2006/relationships/image" Target="../media/image2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9051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ORD FAMILY GUESSING GAM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" cy="90504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0" y="0"/>
            <a:ext cx="8915400" cy="905040"/>
            <a:chOff x="0" y="0"/>
            <a:chExt cx="8915400" cy="905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914400" y="0"/>
              <a:ext cx="9144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1828800" y="0"/>
              <a:ext cx="9144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5"/>
            <a:stretch/>
          </p:blipFill>
          <p:spPr>
            <a:xfrm>
              <a:off x="2666880" y="0"/>
              <a:ext cx="9144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6"/>
            <a:stretch/>
          </p:blipFill>
          <p:spPr>
            <a:xfrm>
              <a:off x="3581280" y="0"/>
              <a:ext cx="9144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7"/>
            <a:stretch/>
          </p:blipFill>
          <p:spPr>
            <a:xfrm>
              <a:off x="4495680" y="0"/>
              <a:ext cx="9144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8"/>
            <a:stretch/>
          </p:blipFill>
          <p:spPr>
            <a:xfrm>
              <a:off x="5334120" y="0"/>
              <a:ext cx="9144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9"/>
            <a:stretch/>
          </p:blipFill>
          <p:spPr>
            <a:xfrm>
              <a:off x="6248520" y="0"/>
              <a:ext cx="9144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10"/>
            <a:stretch/>
          </p:blipFill>
          <p:spPr>
            <a:xfrm>
              <a:off x="7162920" y="0"/>
              <a:ext cx="9144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11"/>
            <a:stretch/>
          </p:blipFill>
          <p:spPr>
            <a:xfrm>
              <a:off x="8001000" y="0"/>
              <a:ext cx="914400" cy="905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914400" y="914400"/>
            <a:ext cx="914400" cy="990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1828800" y="914400"/>
            <a:ext cx="923760" cy="914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>
            <a:off x="2666880" y="914400"/>
            <a:ext cx="914400" cy="903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5"/>
          <a:stretch/>
        </p:blipFill>
        <p:spPr>
          <a:xfrm>
            <a:off x="3505320" y="914400"/>
            <a:ext cx="914400" cy="903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6"/>
          <a:stretch/>
        </p:blipFill>
        <p:spPr>
          <a:xfrm>
            <a:off x="4419720" y="914400"/>
            <a:ext cx="914400" cy="903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7"/>
          <a:stretch/>
        </p:blipFill>
        <p:spPr>
          <a:xfrm>
            <a:off x="5257800" y="914400"/>
            <a:ext cx="914400" cy="903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8"/>
          <a:stretch/>
        </p:blipFill>
        <p:spPr>
          <a:xfrm>
            <a:off x="6095880" y="914400"/>
            <a:ext cx="914400" cy="903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9"/>
          <a:stretch/>
        </p:blipFill>
        <p:spPr>
          <a:xfrm>
            <a:off x="7010280" y="914400"/>
            <a:ext cx="914400" cy="903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0"/>
          <a:stretch/>
        </p:blipFill>
        <p:spPr>
          <a:xfrm>
            <a:off x="7924680" y="914400"/>
            <a:ext cx="914400" cy="903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0880" y="4648320"/>
            <a:ext cx="27432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 Fami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celebrate this on the day you were bor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9880" y="3276720"/>
            <a:ext cx="4267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TH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010280" y="4800600"/>
            <a:ext cx="1827360" cy="1806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311148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pposite of la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580920" y="55627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010280" y="4800600"/>
            <a:ext cx="1827360" cy="1806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971800" y="1143000"/>
            <a:ext cx="2755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spread this on toas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657600" y="5714640"/>
            <a:ext cx="2362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010280" y="4800600"/>
            <a:ext cx="1827360" cy="1806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514600" y="1676520"/>
            <a:ext cx="426708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waiter will ______ you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581280" y="5486040"/>
            <a:ext cx="1828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010280" y="4800600"/>
            <a:ext cx="1827360" cy="1806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124080" y="1219320"/>
            <a:ext cx="36957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black and white ball that you kic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8960" y="4876560"/>
            <a:ext cx="2514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010280" y="4800600"/>
            <a:ext cx="1827360" cy="1806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733920" y="1600200"/>
            <a:ext cx="2887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means to get smal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504960" y="5486040"/>
            <a:ext cx="2438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010280" y="4800600"/>
            <a:ext cx="1827360" cy="1806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657600" y="1371600"/>
            <a:ext cx="206532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te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a category and an amou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he mouse to watch the answers fly in to check your wor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to the main page by clicking on the letter of the alphabet from each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D FAMILY GUESSING G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676520" y="1447920"/>
          <a:ext cx="61722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ch! I am 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57600" y="4038120"/>
            <a:ext cx="1828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4800600"/>
            <a:ext cx="1827360" cy="1806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352680" y="1676520"/>
            <a:ext cx="266724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_______ wood in the firepla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8640" y="5105520"/>
            <a:ext cx="1676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4800600"/>
            <a:ext cx="1827360" cy="1806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2819520" y="1371600"/>
            <a:ext cx="365760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imals don’t have hair, they have 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57240" y="5562720"/>
            <a:ext cx="1981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4822920"/>
            <a:ext cx="1827360" cy="1806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276720" y="1676520"/>
            <a:ext cx="3198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pposite of straigh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657240" y="5181120"/>
            <a:ext cx="1676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2316240" cy="2895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010280" y="4800600"/>
            <a:ext cx="1827360" cy="1806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2841480" y="1697040"/>
            <a:ext cx="345924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n animal the fli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86200" y="5029200"/>
            <a:ext cx="1371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010280" y="4800600"/>
            <a:ext cx="1827360" cy="1806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90920" y="1371600"/>
            <a:ext cx="330012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pposite of a bo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657600" y="49525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010280" y="4800600"/>
            <a:ext cx="1827360" cy="18064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286000" y="1676520"/>
            <a:ext cx="35244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4:42:40Z</dcterms:created>
  <dc:creator>Amityville UFSD</dc:creator>
  <dc:description/>
  <dc:language>en-US</dc:language>
  <cp:lastModifiedBy>FCSD</cp:lastModifiedBy>
  <dcterms:modified xsi:type="dcterms:W3CDTF">2008-06-04T16:55:28Z</dcterms:modified>
  <cp:revision>5</cp:revision>
  <dc:subject/>
  <dc:title>WORD FAMILY GUESSING GAME!</dc:title>
</cp:coreProperties>
</file>